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2E0-0FB1-44F3-9EEF-E663D94C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69B-7079-4CBE-8433-4CC3E0CD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E22-AADD-4F45-9BA2-68380CCB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1EB-E18B-41FB-B456-542B9D98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D37-C42D-471F-B988-E2B0ECF2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0E1-B359-47AB-8252-2ECD7CB6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C77-2DB0-46C7-B83A-773A69C2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72B-37AD-4DD9-B0EB-E86EF092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A9C-B2A1-4ED8-B7B5-B386FB07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E55-91B9-4A17-B091-48AF2C8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F4B-9665-4EB1-AFA0-DEB85000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5BD-326F-455F-A2CF-30BCAC61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CE44-84DE-4AC9-A43A-545B55E10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828800"/>
            <a:ext cx="70102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Fue descubierto que nuestro cerebro tiene un "hueco". (El tuyo también lo tiene, por si te sientes diferen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Aquí va un pequeño ejercicio de calculo mental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Este cálculo debe ser realizado mentalmente y rápidamente, sin calcula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-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dora, ni papel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ni lápi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2096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Tahoma"/>
              </a:rPr>
              <a:t>Sea honesto, haga los cálculos mentalmente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600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Súmal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4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ienes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grégale 30 y nuevamente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Súmale 20. Súmale 1000 y 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ñá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le 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000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úmale 1000 más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419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 respuesta correcta es 4100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 no lo cree verifíquelo con una calculado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Pri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43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ápido e impresionante: cuente cuantas letras "F" tiene el texto sigu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n usar el Mouse. Como siempre hágalo rápidame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89548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FINISHED FILES ARE THE RESULT OF YEARS OF SCIENTIFIC STUDY COMBIN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PERIENCE OF YEA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685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egundo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572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uant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257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asa a la siguient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ahoma"/>
              </a:rPr>
              <a:t>solo cuando haya contado las letras "F"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862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OK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uanta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1430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143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4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1430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Err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4760" y="1905120"/>
            <a:ext cx="210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son 6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819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é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una vez má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657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INISHED FILES ARE THE RESULT OF YEARS OF SCIENTIFIC STUDY COMBIN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EXPERIENCE OF YEA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952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l cerebro muy difícilmente consigue procesar la palabra 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562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Quien cuenta las 6 "F" en la primera vez es un genio, 3 es normal, 4 es más raro, 5 más raro y 6 casi nad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1280" y="685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erc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828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Se cree diferente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Haga est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886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Alguna vez pensaron si somos iguales o si pensamos las mismas cos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410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Hagan este ejercicio de reflexión y encuent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la respuesta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20952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Siga las instrucciones y responda las preguntas una a una mentalmente y tan rápido como le sea po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NO SIGA SIN HABER RESPONDIDO LA PREGUNTA ANTERIOR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  <a:ea typeface="Tahoma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e sorprenderá con la respuesta!!!!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286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Ahora responda una cada vez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0160" y="2895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uánto 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24000" y="289548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5+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39840" y="33195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+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39840" y="37767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9+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36240" y="42339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2+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20400" y="4724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5+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20400" y="51814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5+5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0400" y="56386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3+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Sí, estos cálculos mentales no son tan difíciles</a:t>
            </a:r>
            <a:r>
              <a:rPr b="0" lang="es-ES_tradnl" sz="2400" spc="-1" strike="noStrike">
                <a:solidFill>
                  <a:srgbClr val="3333cc"/>
                </a:solidFill>
                <a:latin typeface="Tahoma"/>
                <a:ea typeface="Tahoma"/>
              </a:rPr>
              <a:t>,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 pero ahora va el verdadero test...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9640" y="13716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ea persistente, siga adelant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23+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133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PIDO!!! PIENSE UNA HERRAMIENTA Y UN COLOR!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07000" y="266688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iga adelant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19240" y="31240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Un poco más .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5760" y="35812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Pensaste en 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191120"/>
            <a:ext cx="723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El 98% de la población respon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martillo rojo cuando responde a este ejercicio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56240" y="35812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verda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429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M</a:t>
            </a:r>
            <a:r>
              <a:rPr b="1" lang="es-E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artillo </a:t>
            </a:r>
            <a:r>
              <a:rPr b="1" lang="es-ES_tradnl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R</a:t>
            </a:r>
            <a:r>
              <a:rPr b="1" lang="es-E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o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9:45:26Z</dcterms:created>
  <dc:creator>PEPE</dc:creator>
  <dc:description/>
  <dc:language>en-US</dc:language>
  <cp:lastModifiedBy>ETXEA</cp:lastModifiedBy>
  <dcterms:modified xsi:type="dcterms:W3CDTF">2009-12-09T16:20:50Z</dcterms:modified>
  <cp:revision>11</cp:revision>
  <dc:subject/>
  <dc:title>Presentación de PowerPoint</dc:title>
</cp:coreProperties>
</file>